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59F1-EB5F-4D3F-9A5C-B7A36174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081-4426-4F7A-95BC-98B20678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EBA-9F59-41F1-916D-CBFEDFB3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A137-BBB6-4B3C-9EB4-7DA1B54B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F14-9390-40A8-B722-505BF668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763-B63D-4CFA-B806-E4DABE08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124-12D5-4D0C-A236-0A56446D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63AA-59F2-4844-8565-B1F21D7E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0F7-F4EF-4D04-BC33-0A2A17F9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C69-07BB-46C5-97A7-7862A600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13A-9697-45D1-B6D8-43A77C0E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0441-DB22-40F6-A06A-2BCA4636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40E8-9418-4BFD-9946-C8DDD7BF7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www.post-gazette.com/popup.asp?img=http://www.post-gazette.com/images3/20050306lifemagazine_450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76720"/>
            <a:ext cx="32004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68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20120" y="4800600"/>
            <a:ext cx="152388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42670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ivil R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5029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5791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st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16328" t="5237" r="18385" b="16354"/>
          <a:stretch/>
        </p:blipFill>
        <p:spPr>
          <a:xfrm>
            <a:off x="5715000" y="228600"/>
            <a:ext cx="109692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 rot="651600">
            <a:off x="7214760" y="3657240"/>
            <a:ext cx="1928880" cy="2489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32503" t="10000" r="29999" b="0"/>
          <a:stretch/>
        </p:blipFill>
        <p:spPr>
          <a:xfrm>
            <a:off x="7485120" y="228600"/>
            <a:ext cx="1565280" cy="2819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3733920"/>
            <a:ext cx="327636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6591240" cy="3548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rot="20577000">
            <a:off x="4191120" y="1066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419720" y="1523880"/>
            <a:ext cx="1066680" cy="19051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1981080"/>
            <a:ext cx="1981080" cy="990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154600">
            <a:off x="7544160" y="1066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449568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 the basics of your crime and investigate the greater meaning of the event you are studying, within the civil rights strug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13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ssible Evidence to Exa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spaper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Magazine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1699920" cy="2619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2743200" y="3581280"/>
            <a:ext cx="2013120" cy="3124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1143000"/>
            <a:ext cx="2190600" cy="2933640"/>
          </a:xfrm>
          <a:prstGeom prst="rect">
            <a:avLst/>
          </a:prstGeom>
          <a:ln w="34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8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8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32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is Evidenc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i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3467160" cy="2378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It Colored In Shades of Gr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rcRect l="15612" t="24090" r="15612" b="39924"/>
          <a:stretch/>
        </p:blipFill>
        <p:spPr>
          <a:xfrm>
            <a:off x="457200" y="2057400"/>
            <a:ext cx="4419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n did the crime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es your crime fit in within the context of the greater civil rights movemen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1905120" cy="2181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rot="21324000">
            <a:off x="837720" y="2925720"/>
            <a:ext cx="39625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your crime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397160"/>
            <a:ext cx="495288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Right?  Who I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965560" cy="4570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9480" y="571500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Guilty?  Who Is Innoc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is the Fire?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re the Firefighters D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33003" t="4513" r="2002" b="13923"/>
          <a:stretch/>
        </p:blipFill>
        <p:spPr>
          <a:xfrm>
            <a:off x="1371600" y="1798560"/>
            <a:ext cx="59436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haps A Bus Is On Fir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0" r="0" b="6141"/>
          <a:stretch/>
        </p:blipFill>
        <p:spPr>
          <a:xfrm>
            <a:off x="1219320" y="1471680"/>
            <a:ext cx="690552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 are these hoses being used for a purpose other than fighting fi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63868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you examine your evidence you need to 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rot="20664600">
            <a:off x="5562720" y="1371600"/>
            <a:ext cx="5344920" cy="770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2448000" cy="9753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0" t="30000" r="0" b="0"/>
          <a:stretch/>
        </p:blipFill>
        <p:spPr>
          <a:xfrm rot="395400">
            <a:off x="3733920" y="4114800"/>
            <a:ext cx="3429000" cy="3200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28600"/>
            <a:ext cx="8382240" cy="109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Who’s Point of View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 Investigato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289548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ope you’re up to this very important 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nous crimes have been committed…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heinous, in fact,  that we have had to call in outside, unbiased sources to investig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86200" y="1752480"/>
            <a:ext cx="5072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La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1622520"/>
            <a:ext cx="8001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ten local and Federal police and governments did not see eye to eye on crime cases.  From evidence you collect, who was following the letter of the la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10787" r="0" b="13748"/>
          <a:stretch/>
        </p:blipFill>
        <p:spPr>
          <a:xfrm>
            <a:off x="1752480" y="3276720"/>
            <a:ext cx="64771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LY STUDY YOUR EV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69339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will need to ask questions, challenging questions, rigorous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2223" b="15276"/>
          <a:stretch/>
        </p:blipFill>
        <p:spPr>
          <a:xfrm>
            <a:off x="533520" y="3429000"/>
            <a:ext cx="3809880" cy="2251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4267080" cy="2662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47920" y="2438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 Whi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s Mil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59436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6019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00240" y="274680"/>
            <a:ext cx="38862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Complete Your Detective She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Summarize your find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Submit your Detective Repo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13926" r="56071" b="34239"/>
          <a:stretch/>
        </p:blipFill>
        <p:spPr>
          <a:xfrm>
            <a:off x="838080" y="1371600"/>
            <a:ext cx="2895840" cy="5105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819520" y="4800600"/>
            <a:ext cx="1752480" cy="1447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533412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838080"/>
            <a:ext cx="57150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ach Group of Detective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ill Be Assigned A Specific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ime To Investigate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6044" t="13890" r="23959" b="12504"/>
          <a:stretch/>
        </p:blipFill>
        <p:spPr>
          <a:xfrm>
            <a:off x="2514600" y="1676520"/>
            <a:ext cx="4486320" cy="495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3049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6th Street Church Bombings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rmingham, 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v. Faubus Denies Integration Little Rock Arkansas  195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24031" r="0" b="0"/>
          <a:stretch/>
        </p:blipFill>
        <p:spPr>
          <a:xfrm>
            <a:off x="914400" y="1981080"/>
            <a:ext cx="66294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1752480"/>
          </a:xfrm>
          <a:prstGeom prst="rect">
            <a:avLst/>
          </a:prstGeom>
          <a:solidFill>
            <a:srgbClr val="ffffff"/>
          </a:solidFill>
          <a:ln w="1620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ting of Rev. Fred Shuttleswor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ept 19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90920" y="2819520"/>
            <a:ext cx="411156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nial of Voting Rights to All Citizens of Selma AL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46320" t="0" r="0" b="0"/>
          <a:stretch/>
        </p:blipFill>
        <p:spPr>
          <a:xfrm>
            <a:off x="3276720" y="1676520"/>
            <a:ext cx="29034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ildren’s “illegal” protest march, Birmingham, 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6067" t="6661" r="1514" b="0"/>
          <a:stretch/>
        </p:blipFill>
        <p:spPr>
          <a:xfrm>
            <a:off x="609480" y="2057400"/>
            <a:ext cx="6019920" cy="4145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715000" y="5181480"/>
            <a:ext cx="1447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sa Park’s Arre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27348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3434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16:41:15Z</dcterms:created>
  <dc:creator>Avon Public Schools</dc:creator>
  <dc:description/>
  <dc:language>en-US</dc:language>
  <cp:lastModifiedBy>Jacqueline Lampley</cp:lastModifiedBy>
  <dcterms:modified xsi:type="dcterms:W3CDTF">2007-06-24T03:16:14Z</dcterms:modified>
  <cp:revision>24</cp:revision>
  <dc:subject/>
  <dc:title>Slide 1</dc:title>
</cp:coreProperties>
</file>